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9284-393F-42B7-BBA3-4A3C1D0EC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– Cornelius horrified that we don’t divide these up further over time as structure changes.  Nice idea, but don’t know how practical in the short te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25360" y="5396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erm-layer terms – mesoderm, ectoderm, endoderm – are used ambiguously.  They sometimes refer to the primary layers at the times they form, and sometimes, all derivates of a germ-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44D-1C69-4FBB-BA0C-967FE98A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0183-5098-4D35-84AD-72D83AC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AF1D-2F83-4C84-8EEE-F2BAF6F8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D1D9-0851-4F32-9BF4-AA5FD29B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7C7-C2DA-44AC-9ECD-54DEF297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9FC-6F10-46AC-936C-D9771976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72BA-240E-4F73-B4E5-AB849F4A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19F1-3483-4CE6-971E-1164D099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DFE-3652-4BB2-95C6-6CB24EB19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D2C3-C175-4AB0-8E94-E7600EED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9118-DD76-4398-B2E3-4FE44C6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D96-1AE7-4436-B178-84BA04EE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3105-29B7-41B8-AB68-B9294432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lassification of developing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34936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tructures are typically classified by developmental biologists according to their f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such terms are to find a home in CARO, they also need a structural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scellaneous structural types of developing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enchy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defined by developmental fate or potential.  Perhaps better defined purely structura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Note – mesenchyme is a mass noun (as opposed to a count noun – like neuron.  Should be referred to as ‘portion of mesenchyme’ according to Barry.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enus is_a 'anatomical line' (?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that cuts across a contiguous tissue separating it into two groups of cells that do not mix during development.  Compartment boundaries have few, if any, morphological correlates, at least while they function as barr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hat there are two types of fate based differentia working to define these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the fate mapping probablistic (some defined percentage of cells in the structure have a specific fate) or deterministic (all the cells in the structure have a specific f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ll the structure contribute to 1 (more) mature structures, or multiple (more) mature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 we cope with these while keeping is_a siblings disjoi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are structurally types of tissue(?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MA Definition of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atomical structure which consist of similarly specialized cells and intracellular matrix, aggregated according to genetically determined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10920" y="333360"/>
            <a:ext cx="78483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lag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synonym: field (?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r the majority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tributing all of its cells to one or a few mature structures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on-determinate an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defined by lineage labelling as contributing the majority of its cells to some specified mature structure but not (yet) having distinct morphological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Also inclusive and specific, as for promordium - see next slide… but this is tangled !!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imordiu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synonym: rudiment (?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one or a few mature structures and having morphologically distinct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clusive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f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ure structures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tinct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ific primor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tissue contributing all of its cells to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ature structure and having morpho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oundar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– anlage, primordium distinction is largely down to presence of boundaries, should this be reflected in different structural categor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m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ivision of embryo established just prior to &amp;/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uring gastrulation.  Initially constituting a contiguous tissue contributing all of its cells a large but limited set of mature anato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tod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d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od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guous tissue consisting of cells unable to cross a *compartment boundary* to mix with cells in a neighbouring tissue with which it is contiguous during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eveloping structures that can be structurally defined as anatomical sets (?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rm layer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which is derived from the a single germ-lay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sodermal deriv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 anatomical structure derived from the mesode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vidual anlage and primordia can be is_a children of these term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what stage, if any, do we stop classifying developing structures in this wa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55640" y="1700280"/>
            <a:ext cx="734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terms have multiple primordia and anlage as parts.  Different parts are instantiated at different s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system (e.g.- developing nervous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(cardinal) body part – e.g.- develop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ing organ (e.g.- developing br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11120" y="5684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eveloping X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03:50:57Z</dcterms:created>
  <dc:creator>David Osumi-Sutherland</dc:creator>
  <dc:description/>
  <dc:language>en-US</dc:language>
  <cp:lastModifiedBy>David Osumi-Sutherland</cp:lastModifiedBy>
  <dcterms:modified xsi:type="dcterms:W3CDTF">2006-09-18T15:54:47Z</dcterms:modified>
  <cp:revision>5</cp:revision>
  <dc:subject/>
  <dc:title>Slide 1</dc:title>
</cp:coreProperties>
</file>